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51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28.png" ContentType="image/png"/>
  <Override PartName="/ppt/media/image41.jpeg" ContentType="image/jpeg"/>
  <Override PartName="/ppt/media/image34.jpeg" ContentType="image/jpeg"/>
  <Override PartName="/ppt/media/image3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55.jpeg" ContentType="image/jpeg"/>
  <Override PartName="/ppt/media/image27.png" ContentType="image/png"/>
  <Override PartName="/ppt/media/image33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4.jpeg" ContentType="image/jpeg"/>
  <Override PartName="/ppt/media/image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62.jpeg" ContentType="image/jpeg"/>
  <Override PartName="/ppt/media/image79.jpeg" ContentType="image/jpeg"/>
  <Override PartName="/ppt/media/image8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3.jpeg" ContentType="image/jpeg"/>
  <Override PartName="/ppt/media/image24.png" ContentType="image/png"/>
  <Override PartName="/ppt/media/image11.jpeg" ContentType="image/jpeg"/>
  <Override PartName="/ppt/media/image68.jpeg" ContentType="image/jpeg"/>
  <Override PartName="/ppt/media/image60.jpeg" ContentType="image/jpeg"/>
  <Override PartName="/ppt/media/image77.jpeg" ContentType="image/jpeg"/>
  <Override PartName="/ppt/media/image8.jpeg" ContentType="image/jpeg"/>
  <Override PartName="/ppt/media/image26.png" ContentType="image/png"/>
  <Override PartName="/ppt/media/image83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82.jpeg" ContentType="image/jpeg"/>
  <Override PartName="/ppt/media/image76.jpeg" ContentType="image/jpeg"/>
  <Override PartName="/ppt/media/image75.jpeg" ContentType="image/jpeg"/>
  <Override PartName="/ppt/media/image70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32.jpeg" ContentType="image/jpeg"/>
  <Override PartName="/ppt/media/image3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72.jpeg" ContentType="image/jpeg"/>
  <Override PartName="/ppt/media/image14.png" ContentType="image/png"/>
  <Override PartName="/ppt/media/image1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94CAF-72D0-48D5-8717-EBADBDA18C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nd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B2E-B935-4433-83EE-F9F95304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9CD-7F40-42C3-A859-61C3BFC9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C52-D972-4F91-9F6A-743FA235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402-A2FB-4B37-B7AE-2FA52F95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04201-9B32-4390-956D-B33888DF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9048A-9A8B-4519-BC4A-C41B5F06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2B893-8AA8-456C-90A9-AC3E23EF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9A7E9-AE5F-4AC7-A599-820BDF07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E6F7D-4818-4482-ACAA-41A1899C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647FE-A494-426D-A3D0-37D39C4F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E46E4-3B71-447D-8F03-C09BA0E3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C1E-F7E0-4E57-952C-15193D93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7AF78-6DC2-4E5A-9C0E-A8F7CD74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F116E-77A7-48B0-B7DE-4C647065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0119A-E4BD-49D7-88AC-EB504754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24533-9EB2-45C9-B60F-0F6ED29C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06539-EE36-4953-8FEB-5CE969D0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05C-5CFE-47B7-A02F-DAFD184C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88E-974B-4A43-BCD7-83D50B77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2FCD-5B33-4E31-8778-AD214DC3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7EA-42FF-487F-BCD5-B99A2108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266-FB3C-4BE5-A35C-DCEAAAD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41B-2187-489B-87B4-80F061F3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E56-993D-488C-A8A1-0D347126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CAAB-9358-4F6F-896F-CCE0CAF29CD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7835-4997-46CF-B053-741C97F7969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67.jpeg"/><Relationship Id="rId5" Type="http://schemas.openxmlformats.org/officeDocument/2006/relationships/image" Target="../media/image68.jpeg"/><Relationship Id="rId6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1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image" Target="../media/image82.jpeg"/><Relationship Id="rId6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4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.P.R.S LIMI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CLADDING REPAIR AND COATING SYSTEM SPECI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TYPICAL TYPES OF INTERNAL CLADDING DAM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76720" y="1916280"/>
            <a:ext cx="251928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25909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68360" y="4292640"/>
            <a:ext cx="2590920" cy="1944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940360" y="4292640"/>
            <a:ext cx="2556000" cy="194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3276720" y="4292640"/>
            <a:ext cx="2519280" cy="1944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5940360" y="1916280"/>
            <a:ext cx="2519280" cy="196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95280" y="38606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Typical Inden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860640"/>
            <a:ext cx="253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Screw holes – Removal of Soc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3860640"/>
            <a:ext cx="23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Perfo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623736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Start of De-lamination around damage not repai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6237360"/>
            <a:ext cx="246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Coating starting to blister and de-lamin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6237360"/>
            <a:ext cx="25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Complete coating breakdown and de-lami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Example of Food Safe Cladding Before remedial work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06436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Example of Food Safe Cladding During remedial works</a:t>
            </a: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79930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Example of Food Safe Cladding After remedial works with Inducoat Flexcoat Anti-bacterial / Anti-Microbial coating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792000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Services Provided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Internal &amp; External Cladding repairs to all types pre-finished and coil coated materials / coating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Internal &amp; External Wall &amp; Roof Cladding stripping and re-coa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Cold Liquid Applied Waterproof coatings to existing Metal Clad / Concrete / Asphalt / Bitumen / Asbestos / Trocal etc. roofing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Internal &amp; External Curtain Walling / Windows / Doors coating refurbishment works to all types of substrates such as PVC, Aluminium, Anodising, Powder Coating etc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Corporate Colour &amp; Logo Re-Brand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Cut edge corrosion / Gutter Re-Lining / Roof Light Refurbishment Work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IPRS will carry out full building envelope surveys and technical consultanc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Tahoma"/>
              </a:rPr>
              <a:t>Advantages For Refurbishment Work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Future Protection of Building Envelop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Extension of Life to First maintenance with backed up Warranti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Prevention of costly replacement and disturbance to existing busines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Added Value for Re-Sale or Letting by enhancing the Aesthetical appearance of the propert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Refurbished property in established commercial or industrial environment rather than in a new less established develop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ffffff"/>
                </a:solidFill>
                <a:latin typeface="Tahoma"/>
              </a:rPr>
              <a:t>IPRS Limited offers a total building envelope solu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ladding Repain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performance of cladding coating systems are generally defined by the Minimum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eriod to Re-Paint Decision. This is the length of time before a building owner needs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nsider will the cladding require re-painting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adding coating systems are manufacturerd with extremely high performanc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pectations. All products used for exterior applications are designed to withstand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vironment but can degrade over time by means of the following main factor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unligh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emicals &amp; pollutan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ater, oxygen and sal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ind-blown sand and salt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y can deteriorate and become defective as a result of additional external forces su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ge of coating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ating damage during install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astal Locatio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Urban Locatio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dustrial Pollu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Environmental Pollu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limatic Chang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Maintenance over the lifetime of the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When the barrier properties of such coatings breakdown it can lead to corrosion of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under lying substrate. Unfortunately, corrosion rate data cannot be generalised due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variations in atmospheric environmen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6308640"/>
            <a:ext cx="314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ypical Plastisol Coating adhesion failur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ypical Coating adhesion failure on external cladding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566600" y="6308640"/>
            <a:ext cx="28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ypical PVDF Coating adhesion fail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888000" cy="4968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788000" y="1197000"/>
            <a:ext cx="388764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ver-paint solutions are available, designed and tailored by IPRS Limited to suit ea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ent’s requirements for aged cladding systems. The correct choice of a coating system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n restore their appearance and significantly extend the building lif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PRS Limited has gained vast experience over the past ten years in the refurbishmen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d restoration of buildings and improving their performance, specification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esthetic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 can offer our Clients and building owners a stress free refurbishment solution i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eventing considerable disruption to production and the workplace. The busines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peration can continue within the confines of the building during the over-coati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peration. IPRS Limited develop a good understanding with all our clients of the potentia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blems but with detailed planning and choice of materials to suit each specific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vironment requirement all difficulties can be overcom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PRS Limited will also evaluate and assess costs, durability of new coating system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uarantee and each building owners tailored need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ABOUT IP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PROVEN TRACK RECORD WITH 10 YEARS SERVICE HISTORY IN THE PRE-FINISHED STEEL, COIL &amp; POWDER COATED REPAIR MARKET SECTOR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OVER 20 YEARS OF EXPERIENCE FROM ON-SITE PERSONNEL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APPROVED BY HOUSEHOLED NAMES SUCH ARCELOR, KINGSPAN, AKZO NOBEL, TEGRAL, EUROBOND, EUROCLAD AND MANY MORE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OFFER BACK TO BACK WARRANTIES WITH MANUFACTUERES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OFFER COST EFFECTIVE COATING SOLUTIONS FOR ALL ASPECTS OF APPLICATIONS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PROVIDE UP TO DATE RESEARCH &amp; DEVELOPMENT ON ALL NEW COATING SYSTEMS &amp; APPLICATIONS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500" spc="-1" strike="noStrike">
                <a:solidFill>
                  <a:srgbClr val="ffffff"/>
                </a:solidFill>
                <a:latin typeface="Tahoma"/>
              </a:rPr>
              <a:t>PROVIDE TECHNICAL BACK UP FROM COATING MANUFACTURERS, EXPERIENCED ON / OFF SITE PERSONNEL, INDEPENDENT COATING INSPECTORS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quality of an over-coating solution and its longevity is influenced by the way in whic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t is installed. IPRS Limited workmanship, quality and adherence to manufacturer’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guidelines is clearly defined by our approval of household names like such as Kingspa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Ltd., Spanwall Ltd., Corus Ltd., Arcelor Mittal, Joriside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main types of over-painting solutions are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Painting over existing coated surfaces with minimal damage to the existing exterior surface, which may require a major upgrade or change of colou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Painting over existing coated surfaces with degree of adhesion failure and evidence of corrosion, which may require a major upgrade, change of colour or extension on the lifetime for the cladding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tripping &amp; painting previously coated surfaces, which require a major upgrade to extend the lifetime of the cladding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We offer stripping techniques such as paint remover, slurry blasting, sand blasting, hydr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blasting etc. in considering our client’s requirements and environmental impac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d Cladding with Defective Coating stripped and over-coated at Bausch Lomb, Waterfo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642920" y="1916280"/>
            <a:ext cx="4038840" cy="4114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95280" y="1916280"/>
            <a:ext cx="835344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d Cladding with Defective Coating stripped and over-coated at Bausch Lomb, Waterfo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29944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d Cladding with Defective Coating stripped and over-coated at Bausch Lomb, Waterfor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353440" cy="43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Zurich BT"/>
              </a:rPr>
              <a:t>Roof refurbishment - Water jetting with protective net to collect the paint fla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80647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Zurich BT"/>
              </a:rPr>
              <a:t>Warehouse Cladding Refurbishment – Steelseal Coating System with 10 Year Warran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95280" y="1557360"/>
            <a:ext cx="4176720" cy="26636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284720" y="3860640"/>
            <a:ext cx="4464000" cy="2565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4221000"/>
            <a:ext cx="31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levation Before refurbish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638172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levation After Refurbish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Zurich BT"/>
              </a:rPr>
              <a:t>Warehouse Cladding Refurbishment – Steelseal Coating System with 10 Year Warran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176720" cy="2754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284720" y="3716280"/>
            <a:ext cx="4392720" cy="2752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4221000"/>
            <a:ext cx="31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levation Before refurbish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6453360"/>
            <a:ext cx="34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levation After refurbish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Zurich BT"/>
              </a:rPr>
              <a:t>Warehouse Cladding Refurbishment – Steelseal Coating System with 10 Year Warran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2952720" cy="2117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508720" y="1628640"/>
            <a:ext cx="3166920" cy="2016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979640" y="3933720"/>
            <a:ext cx="525780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Zurich BT"/>
              </a:rPr>
              <a:t>Warehouse Cladding Refurbishment – Steelseal Coating System with 10 Year Warran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4032360" cy="26654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95640" y="3860640"/>
            <a:ext cx="475308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Roof Refurbishment / Gutter Repair &amp; Li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IPRS Limited is the sole Republic of Ireland distributor and GE Qualifi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pplicator for the GE Silicones Protective Coatings Programme co-ordinat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nd Seamsil system manufacturer Delvemade Limited in accordance wit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pplication training provided by Giromax Technology Limited for </a:t>
            </a:r>
            <a:r>
              <a:rPr b="1" lang="en-IE" sz="1600" spc="-1" strike="noStrike">
                <a:solidFill>
                  <a:srgbClr val="ffffff"/>
                </a:solidFill>
                <a:latin typeface="Tahoma"/>
              </a:rPr>
              <a:t>Cut Edg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ffffff"/>
                </a:solidFill>
                <a:latin typeface="Tahoma"/>
              </a:rPr>
              <a:t>Corrosion repair technology </a:t>
            </a: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”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t is our responsibility to distribute, control and apply all GE Silicone Protective Coating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o ensure correct technical and aesthetic product application under the stric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guidelines/training provided by Giromax Technology Lt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 progress technical assessments are undertaken to ensure that each project proceed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 accordance with the agreed specification. Typical monitoring includes Surfac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Preparation, Application Standards, Thickness &amp; Adhesion Tes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ris Refurbishment Solutions - Platinum Supply Chain Partn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SERVICES PROVID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pecialists in the Repair and re-spray of Coil Coated &amp; Pre-Finished Steel coating systems such as  PVF2 / PVDF / Plastisol / Polyester / Polyurethane and other systems upon reques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pecialists in the Repair and re-spray of Powder coating systems to Curtain Walling, Cladding, flashings, Roofs, Doors and all associated items on any building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Repair and re-spray systems to food safe and clean-room cladding in high risk environments including cold stores / refrigerator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ut edge corrosion treatment &amp; protection using Seamsil products approved by Kingspan and Corus to gutter edges, roof sheet overlaps and gutter syste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rporate colour changes &amp; Re-Branding of Metal / Aluminium shop fronts, windows, cladding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Application of Poly-roof Cold Liquid applied coating systems to Asbestos, Bitumen, Cladding, Concrete, Felt etc. roofing materials and offering 10 to 25 years insured back guarante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Giromax Technology is the Platinum Supply Chain Partner for all repain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rojects with the 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Platinum Partnership System Warranty 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ministered b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orus Refurbishment Solutio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Cut Edge Corrosion occurs at the cut edges and overlapped joints on roof cladding sheet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Where the cut edges of coated metal cladding are exposed to the elements for prolong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periods of time, de-lamination may occur in the form of peel back of the factory coating.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unprotected metal substrate then becomes exposed to rusting and corros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If the Cut Edge Corrosion is not addressed quickly it will damage the metal sheeting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adversely affect the roof. Cut Edge Corrosion is a progressive problem and if neglected it ca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develop away from the cut edge, and destroy the weather seal at joint overlaps and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gutter overhang at eav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The general condition of the roof will deteriorate rapidly and this will have a negative impac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on the building value, ongoing maintenance and possible roof replacement cost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GE Silicone Protective Coatings Programme provided by IPRS Ltd. is a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ollows 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imple - Seamsil -Metal edge, Gutter Systems, Defective Joints Treatment &amp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tec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ts built in simplicity makes SEAMSIL ® a most cost effective and reliable cure for edg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d overlap corrosion proble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ours - SEAMSIL edge and overlap protection stem is available in a range of colours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tch the most popular shades used in industrial claddings. SEAMSIL has good elastic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d flexibility properties to withstand normal surface movements. This ensures continu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ptimum performance even in the most aggressive environmen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imple - Seamsil -Metal edge, Gutte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ystems, Defective Joints treatment &amp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tec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ts built in simplicity makes SEAMSIL ® 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st cost effective and reliable cure f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dge and overlap corrosion proble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ours - SEAMSIL edge and overlap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tection stem is available in a range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ours to match the most popular shade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ed in industrial claddings. SEAMSIL ha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ood elastic and flexibility properties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ithstand normal surface movement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is ensures continued optimum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erformance even in the most aggressiv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vironment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2920" y="1915920"/>
            <a:ext cx="4038840" cy="19810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642920" y="4005000"/>
            <a:ext cx="4038840" cy="1981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643280" y="1916280"/>
            <a:ext cx="4032360" cy="194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403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tural - G.E. Delco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rchitectural Coating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organic Silicone Technolog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nsures that the G.E. Delco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rchitectural coating remain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aturally unaffected by UV 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tremes of weather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mperature. Silicone coatings are non-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acrificial and naturally halt the proces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f corrosion. No corrosion inhibitors 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imers are require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sed in conjunction with Seamsil, its fas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pplication minimises site disrup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48320" y="190476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642920" y="4005000"/>
            <a:ext cx="4038840" cy="1981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643280" y="1916280"/>
            <a:ext cx="4032360" cy="1944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4643280" y="4005360"/>
            <a:ext cx="403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403848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tective - Delglaze Weatherpro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oa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lglaze is a high performance, high build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ngle component moisture curing aliphatic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olyurethane coating that cures to provi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 clear, tough membrane principally fo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re coating and sealing of aged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athered grp roof lights. Once clean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oss and lichen, Delglaze seals in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xposed fibres, remaining flexible enough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 accommodate roof light movemen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ully cured Delglaze provides a tough cle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lastomeric coating with crack bridgi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pabilities that is particularly effective o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ficult to replace roof lights on an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sbestos cement roof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42920" y="1628640"/>
            <a:ext cx="4038840" cy="1981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4642920" y="3860640"/>
            <a:ext cx="4038840" cy="1981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4105440" cy="2016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4643280" y="3860640"/>
            <a:ext cx="410544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ahoma"/>
              </a:rPr>
              <a:t>Examples of Cut edge Corro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2808360" cy="2087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3132000" y="1413000"/>
            <a:ext cx="2808360" cy="2087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6156360" y="1413000"/>
            <a:ext cx="2808360" cy="2087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179280" y="407664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6156360" y="4076640"/>
            <a:ext cx="2808360" cy="21607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7"/>
          <a:stretch/>
        </p:blipFill>
        <p:spPr>
          <a:xfrm>
            <a:off x="3132000" y="4076640"/>
            <a:ext cx="2808360" cy="2160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9280" y="3500280"/>
            <a:ext cx="28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Start of cut edge corrosion @ 50m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59280" y="3500280"/>
            <a:ext cx="30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Start of cut edge corrosion @ 75m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84720" y="3500280"/>
            <a:ext cx="30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Start of cut edge corrosion @ 100m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6237360"/>
            <a:ext cx="26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Corroded metal 50-75mm on top sheet on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59280" y="623736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etal corroded on top &amp; bottom shee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623736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Cut edge corrosion at maximum limi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Examples of Cut edge Corro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2880000" cy="194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IMAG1514.jpg"/>
          <p:cNvPicPr/>
          <p:nvPr/>
        </p:nvPicPr>
        <p:blipFill>
          <a:blip r:embed="rId3"/>
          <a:stretch/>
        </p:blipFill>
        <p:spPr>
          <a:xfrm>
            <a:off x="3203640" y="1484280"/>
            <a:ext cx="2663640" cy="194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IMAG1508.jpg"/>
          <p:cNvPicPr/>
          <p:nvPr/>
        </p:nvPicPr>
        <p:blipFill>
          <a:blip r:embed="rId4"/>
          <a:stretch/>
        </p:blipFill>
        <p:spPr>
          <a:xfrm>
            <a:off x="6012000" y="1484280"/>
            <a:ext cx="2847960" cy="194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IMAG1522.jpg"/>
          <p:cNvPicPr/>
          <p:nvPr/>
        </p:nvPicPr>
        <p:blipFill>
          <a:blip r:embed="rId5"/>
          <a:stretch/>
        </p:blipFill>
        <p:spPr>
          <a:xfrm>
            <a:off x="179280" y="407664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0" descr="Cut Edge left untreated - Roof replacement required.jpg"/>
          <p:cNvPicPr/>
          <p:nvPr/>
        </p:nvPicPr>
        <p:blipFill>
          <a:blip r:embed="rId6"/>
          <a:stretch/>
        </p:blipFill>
        <p:spPr>
          <a:xfrm>
            <a:off x="3203640" y="4076640"/>
            <a:ext cx="2663640" cy="22100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6012000" y="4076640"/>
            <a:ext cx="2881080" cy="22100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3429000"/>
            <a:ext cx="295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etal corroded thru. Top &amp; bottom sheet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3429000"/>
            <a:ext cx="28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Fibre, debris, moisture has created a poultice under the roof lap 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12000" y="3429000"/>
            <a:ext cx="31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etal corroded thru’ from undersid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6237360"/>
            <a:ext cx="295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etal corroded thru’ from underside of sheeting approx. 4-6” up from join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23736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etal Corroded thru’ past first fix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2000" y="6308640"/>
            <a:ext cx="26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Roof requires replacement – Structurally un-so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Examples of Cut edge Corrosion Treatment 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2735280" cy="223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059280" y="4149720"/>
            <a:ext cx="2881080" cy="2232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79280" y="1628640"/>
            <a:ext cx="2737080" cy="2210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3059280" y="1628640"/>
            <a:ext cx="2881080" cy="22100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6084720" y="1628640"/>
            <a:ext cx="2901960" cy="2197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6084720" y="4149720"/>
            <a:ext cx="2880000" cy="2222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3789360"/>
            <a:ext cx="27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Pre-treatment of j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789360"/>
            <a:ext cx="280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encapsulated</a:t>
            </a:r>
            <a:r>
              <a:rPr b="0" lang="en-IE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I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92280" y="3789360"/>
            <a:ext cx="24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encapsul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9280" y="630864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treatment with patch to bottom sheet</a:t>
            </a:r>
            <a:r>
              <a:rPr b="0" lang="en-I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87640" y="6308640"/>
            <a:ext cx="30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treatment complete</a:t>
            </a:r>
            <a:r>
              <a:rPr b="0" lang="en-IE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6381720"/>
            <a:ext cx="28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comple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Examples of Cut edge Corrosion Treatment 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2735280" cy="2160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4"/>
          <a:stretch/>
        </p:blipFill>
        <p:spPr>
          <a:xfrm>
            <a:off x="179280" y="4221000"/>
            <a:ext cx="2952720" cy="2232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5"/>
          <a:stretch/>
        </p:blipFill>
        <p:spPr>
          <a:xfrm>
            <a:off x="3276720" y="4221000"/>
            <a:ext cx="2735280" cy="2232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6"/>
          <a:stretch/>
        </p:blipFill>
        <p:spPr>
          <a:xfrm>
            <a:off x="6156360" y="4221000"/>
            <a:ext cx="2808360" cy="22323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179280" y="1700280"/>
            <a:ext cx="2952720" cy="2160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79280" y="3860640"/>
            <a:ext cx="28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Example of joint comple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3860640"/>
            <a:ext cx="26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Joint complete at Roof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56360" y="3860640"/>
            <a:ext cx="259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Joint complete at Roof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6453360"/>
            <a:ext cx="27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Gutter Edge 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645336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Gutter Edge 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56360" y="6453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Roof light refurbish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rchitectural Cladding Repairs 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.P.R.S Limited repair, re-spray and maintain all types of new / aged architectural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adding panels. The types of profiles repaired range across a wide spectrum from micr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ib to flat panels, using the latest in professional coating system technologies. 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"With the current unstable world economy, companies are constantl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onitoring and reviewing their maintenance budgets. The availability of 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quick, guaranteed and cost-effective back-up solution to replaci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ritical in preventing costly downtime and replacement costs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e can guarantee paint adhesion &amp; colour match to suit each client's tailored needs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ffer a back to back guarantee with the manufacturer of the cladding system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quality of our cladding repair solutions is clearly defined by our approval 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ousehold manufacturer names such as Kingspan, Tegral, AME, Euroclad, PAROC etc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SERVICES CONT’D…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Blasting / alternate removal options and application of industrial coating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oating repair and re-spraying of Sectional Overhead Door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Repair and re-spray of Staircases, Entrances, Balustrades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-situ refurbishment to lift doors, frames, and carriag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pplication of anti-graffiti coating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pplication of thermal coating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On site galvanic protection / upgrade using Zinga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Distribution and application of antibacterial and antimicrobial coating syste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Application of epoxy resin and antibacterial floor coating syste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457200" y="40384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648320" y="4038480"/>
            <a:ext cx="4038480" cy="1981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flat profile after"/>
          <p:cNvPicPr/>
          <p:nvPr/>
        </p:nvPicPr>
        <p:blipFill>
          <a:blip r:embed="rId4"/>
          <a:stretch/>
        </p:blipFill>
        <p:spPr>
          <a:xfrm>
            <a:off x="4643280" y="4005360"/>
            <a:ext cx="4105440" cy="20876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Flat profile"/>
          <p:cNvPicPr/>
          <p:nvPr/>
        </p:nvPicPr>
        <p:blipFill>
          <a:blip r:embed="rId5"/>
          <a:stretch/>
        </p:blipFill>
        <p:spPr>
          <a:xfrm>
            <a:off x="395280" y="4005360"/>
            <a:ext cx="4105440" cy="2087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6"/>
          <a:stretch/>
        </p:blipFill>
        <p:spPr>
          <a:xfrm>
            <a:off x="395280" y="1628640"/>
            <a:ext cx="410544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7"/>
          <a:stretch/>
        </p:blipFill>
        <p:spPr>
          <a:xfrm>
            <a:off x="4643280" y="1628640"/>
            <a:ext cx="4105440" cy="19814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95280" y="3645000"/>
            <a:ext cx="36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icro-Ribbed Cladding Before Re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3645000"/>
            <a:ext cx="36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Micro-Ribbed Cladding After Re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6093000"/>
            <a:ext cx="3745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Flat Profiled Cladding Before Re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609300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Flat Profiled Cladding After Rep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urtain Walling (Windows / doors) refurbish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.P.R.S. Limited carry out repairs and apply individual / site specific coating systems required in-situ on sit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r at our spray facility off site to damaged Curtain Walling. All curtain walling surfaces should be protecte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rom abrasion, scuffing and other damage during transportation and installation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ny facade materials including curtain walling have to be finished or coated to protect them from th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vironment and give the required appearance. The quality of the finish may be the greatest facto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ffecting the useful life of the wall and when damaged is likely to be a contentious issue if the appearanc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s not acceptable to the client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hen scratched or damaged the metal may rot, corrode and suffer other forms of degradation in th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sence of moisture, U.V., salt laden air and air borne pollutants. 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tar drops and similar alkaline materials can be particularly damaging to coatings and paint finishe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uring the construction of any project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pairs to curtain walling coated surfaces can be carried out to the highest of standards by ou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xperienced trained specialist staff and prevent a replacement process, which can delay programmes and incur un-necessary costs.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service provided to maintain all types of curtain walling coating systems including powder coating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using the latest in professional coating systems, enables I.P.R.S to guarantee 100% paint adhesion, colou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atching and offer back to back guarantees with the Manufacturer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4105440" cy="2070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4716360" y="1700280"/>
            <a:ext cx="4105440" cy="2070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395280" y="4292640"/>
            <a:ext cx="4105440" cy="2087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4716360" y="4292640"/>
            <a:ext cx="4103640" cy="20876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24000" y="3789360"/>
            <a:ext cx="36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Typical Damage to Curtain Walling – Scratches / Scuff mar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43280" y="3789360"/>
            <a:ext cx="39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Typical Damage – Deep Scratch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6381720"/>
            <a:ext cx="37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Preparation &amp; masking of Curtain Wall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43280" y="638172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Damaged transom repaired &amp; respray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Tahoma"/>
              </a:rPr>
              <a:t>Cold Liquid Applied Waterproof coatings to existing Metal Clad 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ffffff"/>
                </a:solidFill>
                <a:latin typeface="Tahoma"/>
              </a:rPr>
              <a:t>Concrete / Asphalt / Bitumen / Asbestos / Trocal etc. roofing syste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PRS Limited is an approved Qualified Applicator for POLYROOF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protective coatings. It is our responsibility to control, ensure correc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echnical and aesthetic product application in accordance with th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trict guidelines / training provided by POLYROOF”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verlay systems such as Polyroof offer an alternative to the complet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replacement of existing flat roofs. The principal advantage of this is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minimise disruption and, in the majority of cases, keep the building full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perational during the refurbishment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n overlay system is usually considered when the existing roof covering is showing early sign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f breakdown. This, for example, could be a felt roof where bubbles or blisters are starting 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ppear, or a single ply or gutter installation where seams or joints are beginning to fail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3" name="" descr="Polyroof"/>
          <p:cNvPicPr/>
          <p:nvPr/>
        </p:nvPicPr>
        <p:blipFill>
          <a:blip r:embed="rId2"/>
          <a:stretch/>
        </p:blipFill>
        <p:spPr>
          <a:xfrm>
            <a:off x="6732720" y="2276640"/>
            <a:ext cx="22287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ey Characteristics of Polyroof Liquid Applied Waterproofing Sys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eamless Cold applied membrane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liminates fire hazards / inconvenience of using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ot applied system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omplete composite roofing solution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 all types of Warm or Cold roof specificatio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uch as Asbestos, Bitumen, Concrete, Felt, Trocal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Applied to existing substrate 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oofs can be safely refurbished without risk o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refurbishment or disrup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Waterproof 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Prevents water from entering the structu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Joint Free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capsulates the roof with a complete seamless coating,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ich eliminates the risk of leakag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igh elasticity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ithstands regular foot traffic and roof movemen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ithout splitting or shear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High film strength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pact resistant &amp; vandal resistant with tough, durabl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long-lasting membra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UV Stable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ables the systems to resist all types of weather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ndi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 year durability rated by the BBA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with a10-25 year insurance backed guarante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commended Uses for New &amp; Existing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rect overlap application to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at &amp; Low Pitched Roof Application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phal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uilt-up Felt (Existing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ngle Ply PVC Membran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ad Sheet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ated roof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lar reflectiv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quid applied polyurethanes and GR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9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utter refurbishmen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0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lvanised Metal Gutter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1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crete Gutter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bestos Gutter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07280" cy="41050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68360" y="6021360"/>
            <a:ext cx="46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Typical Detail using Elastex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4" name="" descr="Thermal Upgrade"/>
          <p:cNvPicPr/>
          <p:nvPr/>
        </p:nvPicPr>
        <p:blipFill>
          <a:blip r:embed="rId2"/>
          <a:stretch/>
        </p:blipFill>
        <p:spPr>
          <a:xfrm>
            <a:off x="468360" y="1916280"/>
            <a:ext cx="8280360" cy="4105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95280" y="6021360"/>
            <a:ext cx="417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ffffff"/>
                </a:solidFill>
                <a:latin typeface="Tahoma"/>
              </a:rPr>
              <a:t>Typical Thermal Up Grad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8" name="" descr="Elastex"/>
          <p:cNvPicPr/>
          <p:nvPr/>
        </p:nvPicPr>
        <p:blipFill>
          <a:blip r:embed="rId2"/>
          <a:stretch/>
        </p:blipFill>
        <p:spPr>
          <a:xfrm>
            <a:off x="395280" y="1700280"/>
            <a:ext cx="8353440" cy="22176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protec"/>
          <p:cNvPicPr/>
          <p:nvPr/>
        </p:nvPicPr>
        <p:blipFill>
          <a:blip r:embed="rId3"/>
          <a:stretch/>
        </p:blipFill>
        <p:spPr>
          <a:xfrm>
            <a:off x="395280" y="4149720"/>
            <a:ext cx="835344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BLASTING, ACCESS, CONTAINMENT / ENCAPSULATION &amp; PAINT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PRS provide coating refurbishment solutions for Bridges and other waterway structures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marine environment, tank farms, petrochemical plants, wind farms, railway infrastructure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ffshore facilities and many more activities available through extensive research &amp;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development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3240000" cy="18716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5003640" y="2421000"/>
            <a:ext cx="324036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MARKET SEC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PHARMACEUT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AGRI F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COMMERCI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INDUST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MOTOR INDUSTR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IT &amp; COMMUNIC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PETROCHEMIC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SPORTS &amp; LEI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ahoma"/>
              </a:rPr>
              <a:t>AND MANY MORE……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Substrates: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Ferrous materials i.e. non-magnetic coatings on magnetic substrates such as plastic, galvanising, enamel, powder paint, chrome and other coating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Non-Ferrous materials i.e. non-magnetic coatings on non-magnetic substrates such as anodising, plastic coatings, powder paint, aluminium, brass, stainless steel etc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crete, brickwork &amp; Plasterwork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ll types of metalwork &amp; steelwork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Blasting &amp; Preparation Servi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PRS provide a variety of Blast cleaning and preparation services, which are effective for removin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defective coatings and a variety of surface contaminants or defects. 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Preparation Systems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ventional Abrasive Blas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Vacum Blas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High pressure water clean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Ultra high pressure water clean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lurry blas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Dry Ice blasting.</a:t>
            </a:r>
            <a:br>
              <a:rPr sz="1600"/>
            </a:b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oating Servic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nal &amp; External Cladding Coating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lean Room Coating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Food Industry Coating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ank Lining Coating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umescent Coating System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Fireproof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crete prote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Brickwork &amp; Blockwork protec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tainment and secondary containment coati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hemical resistant, non-slip floor coating application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General Maintenance Pain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crease design life of pre-formed galvanised purlins and structural portal framework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Access, Containment, Encapsulation &amp; Protec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MEWP and all types of specialised scaffolding acces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bseil acces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sbestos roof specialised access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mporary fall arrest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Encapsulation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pecialised dust / fume extraction and containment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mporary air tight protection screens.</a:t>
            </a:r>
            <a:br>
              <a:rPr sz="1400"/>
            </a:b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443640" y="1916280"/>
            <a:ext cx="2168640" cy="15714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6443640" y="4653000"/>
            <a:ext cx="222084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echnical &amp; Quality Control Suppor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atings surveys and technical analysi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atings specification research &amp; develop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nvironmental research &amp; develop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ealth &amp; Safety and hazard documenta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esting requirements and standard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ject description and requiremen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ealth &amp; Safety &amp; Environment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pproved training courses and certificate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velopment of method statemen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vision of site specific risk assessmen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vision of safety plan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SDS &amp; COSSH sheets for proposed material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fety site audi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fety inspections &amp; tool box talks by qualified personnel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highest health and safety standards are maintained on all IPRS managed projects.</a:t>
            </a:r>
            <a:br>
              <a:rPr sz="14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156360" y="1989000"/>
            <a:ext cx="247500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INDUSTRIAL &amp; COMMERCI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ject manage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PRS will provide and ensure the reliable availability of all planning data, specifications, testing an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ient reports by means of the following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e-Award Mee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Kick-off Mee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ite Establishment Mee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formance Meeting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gress Mee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ose out Meeting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 will provide cost effective design solutions to meet the technical requirements of a wide range of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jects in all sector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072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Upgrade of new glavanised purlins, multi-beams, rails and ancillaries, using Zinga on-site Galvanic protection coating system to achieve a 30 year design  life in a Bio-Composite C5 corrosive environment facility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3600360" cy="20955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3456000" cy="2016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5148360" y="1557360"/>
            <a:ext cx="3600360" cy="20160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395280" y="4149720"/>
            <a:ext cx="3456000" cy="20890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24000" y="3573360"/>
            <a:ext cx="302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New Galvanised Purlins Prior to Blas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076720" y="3573360"/>
            <a:ext cx="3240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Purlins in on-site temporary blasting tu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6237360"/>
            <a:ext cx="30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Purlins Coated with New 30 year design life Zinga Spec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076720" y="6237360"/>
            <a:ext cx="36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ffff"/>
                </a:solidFill>
                <a:latin typeface="Tahoma"/>
              </a:rPr>
              <a:t>Upgraded purlins in-stalled for supporting roof pan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Tahoma"/>
              </a:rPr>
              <a:t>MOTOR SEC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425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acade &amp; Corporate Colour Refurbishment - Corporate Colou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/ Logo re-branding.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Façade refurbishment &amp; corporate in-situ colour service provided by IPRS Limited is one that cover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ll types of buildings and business across every sector from retail to the motor industry. The service will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eet the demand of any client bringing you from the design stage of the project to comple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e can offer our Clients a stress free refurbishment solution in preventing considerable disruption t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duction and the workplace. IPRS Limited develop a good understanding with all our clients of th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otential problems but with detailed planning and choice of materials to suit each specific environment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equirement all difficulties can be overcome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PRS Limited will also evaluate and assess costs, durability of new coating system, guarantee and each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uilding owners tailored needs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quality of an over-coating solution and its longevity is influenced by the way in which it is installe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PRS Limited workmanship, quality and adherence to manufacturer’s guidelines is clearly defined by our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pproval of household names such as Peugeot Ireland, Mc Donalds Ireland, Tesco, Lidl, Aldi and man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e references, which can be obtained from our Head Office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y refurbishing your existing building you will give it a new life,image and re-sale value.</a:t>
            </a:r>
            <a:br>
              <a:rPr sz="16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Corporate Re-Branding of Tom Kilroy Peugeot Garage in Limerick to New Toyota Deal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763640" y="54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DSC02361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207280" cy="4465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95280" y="594072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North elevation with Peugeot colours prior to re-bra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Corporate Re-Branding of Tom Kilroy Peugeot Garage in Limerick to New Toyota Deal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07280" cy="46180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95280" y="60721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North elevation with New Toyota colours during re-brand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Tahoma"/>
              </a:rPr>
              <a:t>Corporate Re-Branding of Tom Kilroy Peugeot Garage in Limerick to New Toyota Deal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395280" y="6165720"/>
            <a:ext cx="52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Tahoma"/>
              </a:rPr>
              <a:t>North elevation complete with New Toyota colou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Tahoma"/>
              </a:rPr>
              <a:t>PHARMACEUTICAL SEC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harmaceutical facilities have to meet strict requirements, regarding maintenance of cladding panel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and doors in a clean-room environment. However, even the best maintained site can suffer cladding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anel damage, caused by personnel working in a specific area or the constant moving and reloc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of plant and machinery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With the current unstable world economy Pharmaceutical facilities are constantly monitoring an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reviewing their maintenance budgets with a view to meeting strict auditing requirements and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guidelines from their customers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he magnitude of the impact of micro-organisms is recently recognised by the World Health &amp; Safet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Organization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he awareness of the health risks of bacteria such as E.Coli, Salmonella etc. is high and IPRS's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tribution &amp; dedication by providing coating repair solutions to minimise such risks is strongly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nnected to our attention for health improvement and welfar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4653000"/>
            <a:ext cx="3673440" cy="1942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1280" y="4653000"/>
            <a:ext cx="3744720" cy="19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PHARMACEUTICAL SEC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ean-rooms consist of specialised materials, chemicals, equipment and protocols uniqu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 each facility. As the front-line defence in protecting the customer’s investment, thi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quire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ll IPRS staff to be fully trained in the entry and exit procedures in a live environ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ll equipment used by IPRS personnel to be application-specific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 well-designed cleaning methodology, a verification programme and a commitment to ensure that clean-room maintenance demands are me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exclusion of any material, substance, particle, chemical or other undesirable substance that can taint, pollute, defile, make impure or unclean, or adversely affect the process or produc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The highest priority from IPRS staff when working in a live clean-room environ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ntamination can take many forms. For this reason, IPRS has a full-time research department working in conjunction with its suppliers to minimise the chances of contamination from its products being introduced into the clean-room environ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03640" y="4724280"/>
            <a:ext cx="3240360" cy="1946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971640" y="4724280"/>
            <a:ext cx="3384360" cy="19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PHARMACEUTICAL SEC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PRS designs, procures, supplies and installs special coating programmes specificall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ilored to individual clients requirements in controlled environments taking into accoun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following criteria: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VOC compliance and legislation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evention of odour while working under live production conditions through choice of water-based products and procedures i.e. working behind tented screens using roll / spray application techniques to achieve high standard of finish required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an easy-clean surface with high scratch resistance and covers defects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good wash resistance with a long life expectancy and a product that can be cleaned with high pressur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chemical resistance against cleaners, disinfectants or sterilising agents based on the client's cleaning methodology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an elastic product for good impact resistanc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certification and approved product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Provision of products to prevent growth of fungi and bacter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Tahoma"/>
              </a:rPr>
              <a:t>Extensive Research and development of new spraying techniques, applications (over 13 various methods) and equipmen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Tahoma"/>
              </a:rPr>
              <a:t>Extensive Research and development on new containment booths and protection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Tahoma"/>
              </a:rPr>
              <a:t>Extensive Research and development on new filtration system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The availability of a quick and cost-effective back-up solution to replacement i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critical in preventing costly downtime &amp; disturban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AGRI FOODS SECT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PRS Limited carry out repairs, remove and re-new coating systems to external cladding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teelwork and internal Food safe, Coldstore, Refrigerator cladding surfaces in all sector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of the food Processing and Manufacturing Industry over the past ten years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he company carries out the following in-situ repairs to all coated / un-coate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metal substrates and applies coating systems to damage areas to avoi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creating a habitat that could support a bacteria, mould and algae spore outbreak: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dentations to wall / ceiling cladding, doors &amp; flashing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Perforations to wall / ceiling cladding, doors &amp; flashing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Refurbishment &amp; rejuvenation of existing aged coated surfac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tripping existing defective coatings &amp; re-applying new client specific tailored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Application of Inducoat Waterbase Anti-Bacterial and Anti-Microbial coatings systems to walls &amp; floors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 u="sng">
                <a:solidFill>
                  <a:srgbClr val="ffffff"/>
                </a:solidFill>
                <a:uFillTx/>
                <a:latin typeface="Tahoma"/>
              </a:rPr>
              <a:t>Note:</a:t>
            </a:r>
            <a:r>
              <a:rPr b="0" i="1" lang="en-IE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ff"/>
                </a:solidFill>
                <a:latin typeface="Tahoma"/>
              </a:rPr>
              <a:t>The use of roll and spray application allows work to be carried out in a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IE" sz="1600" spc="-1" strike="noStrike">
                <a:solidFill>
                  <a:srgbClr val="ffffff"/>
                </a:solidFill>
                <a:latin typeface="Tahoma"/>
              </a:rPr>
              <a:t>shutdown or live environment thus preventing costly downtim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21:52:07Z</dcterms:created>
  <dc:creator>.</dc:creator>
  <dc:description/>
  <dc:language>en-US</dc:language>
  <cp:lastModifiedBy>.</cp:lastModifiedBy>
  <dcterms:modified xsi:type="dcterms:W3CDTF">2012-11-08T16:32:50Z</dcterms:modified>
  <cp:revision>49</cp:revision>
  <dc:subject/>
  <dc:title>I.P.R.S LIMITED</dc:title>
</cp:coreProperties>
</file>